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5BB-0334-46A6-A147-3B9F9116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B30-4345-451B-B3D1-F0FE419B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FA5-BF4A-47FC-8424-CB75A356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A0D-99BD-4EBE-A34B-8199F1E1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437-D574-428B-B1FC-3A9C5E02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9B2-49EF-43CC-9784-BAB51EC2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9A3-D63B-4716-89E2-18B75B4C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93E-06BA-4DCE-ACAC-80FB68C0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AD7-171D-458F-9487-85C5EDA9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C78-A0F8-4F10-8D97-D6D65E67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437-E965-4E53-AF8F-31ABE400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F4B-9866-49B5-901F-1665A8CB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9C9A-774A-4F12-9C98-7572C2CFE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2 V náruči Ježišov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svoju spás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on dôkaz dal 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a mňa zomrel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odpočívam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rdci jeho svä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blaho preží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okoj svoj mi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naň sa spolieh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sa ku mne skláň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v tiesni skrýšu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odpočívam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rdci jeho svä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blaho preží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ýva mi najlepš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bolesť každú stíš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hojiť rany v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pokušením chrá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mizne pochybn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víťazstvu nad zlom d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lu a zmužil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ýva mi najlepš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bolesť každú stíš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hojiť rany v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svoju spás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on dôkaz dal 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a mňa zomre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dať mi život ve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budem bývať s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hriechu noc sa skonč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ár jeho uvid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0:09:17Z</dcterms:modified>
  <cp:revision>21</cp:revision>
  <dc:subject/>
  <dc:title>Je veľký náš Pán, on slávy je Kráľ Nech do všetkých strán  spev vrúcnych znie chvál.</dc:title>
</cp:coreProperties>
</file>